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7B7-CB0E-4054-B09E-C88EFA91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5D70-F86B-447C-9704-5190D962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1DF-49C8-4A02-BC5D-182E091D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9FE-67E4-4768-9429-2F366DC6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EC5B-D848-41D9-92F0-1D5D2639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8968-1387-4234-A32D-12303C76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1BB-B078-4D8A-A461-97447E9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9FC-6AF7-4F01-82C1-10E54E8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BE7-16C3-4134-8516-158630F6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C10-1F09-43CE-B072-37FB640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254-4435-4F4A-A4E9-DDB0308F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8B4-6A43-4296-8DFB-279257D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F30D-BEEE-4991-8536-D19D4C302E2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UnaiponLegendaryTa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3789360"/>
            <a:ext cx="377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David Unaipon in the 1920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476280"/>
            <a:ext cx="5400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0e500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avid Unaipon</a:t>
            </a:r>
            <a:endParaRPr b="0" lang="en-US" sz="5400" spc="1" strike="noStrike">
              <a:ln w="9360">
                <a:solidFill>
                  <a:srgbClr val="f0e500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Blackadder ITC"/>
              </a:rPr>
              <a:t>About David Unaip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2781000"/>
            <a:ext cx="361296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Born in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28 September 1872 at the Point McLeay Miss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A preacher, author and inventor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View of Point Mcleay and Point Sturt"/>
          <p:cNvPicPr/>
          <p:nvPr/>
        </p:nvPicPr>
        <p:blipFill>
          <a:blip r:embed="rId1"/>
          <a:stretch/>
        </p:blipFill>
        <p:spPr>
          <a:xfrm>
            <a:off x="684360" y="1916280"/>
            <a:ext cx="4025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Care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In 1909, he invent  the handpiece shearing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11640" y="508464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3840" y="1341360"/>
            <a:ext cx="3710160" cy="485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1950840" cy="186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4724280"/>
            <a:ext cx="2843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shearing machine to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5280" y="1844640"/>
            <a:ext cx="4402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Knew as Australia's Leonardo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( inventor and design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1654200" cy="24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748040" cy="201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4581360"/>
            <a:ext cx="4043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Fort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orte"/>
              </a:rPr>
              <a:t>His picture is on the Fifty Dollar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Achieve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213336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In 1953, he received the Coronation Medal by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discovering the secret of perpetual mot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He also invented many other machines, songs and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Image:Queen Elizabeth II Coronation Medal.png"/>
          <p:cNvPicPr/>
          <p:nvPr/>
        </p:nvPicPr>
        <p:blipFill>
          <a:blip r:embed="rId1"/>
          <a:stretch/>
        </p:blipFill>
        <p:spPr>
          <a:xfrm>
            <a:off x="1908000" y="2205000"/>
            <a:ext cx="1114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360" y="2781360"/>
            <a:ext cx="405144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3:34:35Z</dcterms:created>
  <dc:creator>Reservoir District Secondary College</dc:creator>
  <dc:description/>
  <dc:language>en-US</dc:language>
  <cp:lastModifiedBy>Reservoir District Secondary College</cp:lastModifiedBy>
  <dcterms:modified xsi:type="dcterms:W3CDTF">2008-07-28T03:30:27Z</dcterms:modified>
  <cp:revision>8</cp:revision>
  <dc:subject/>
  <dc:title>Slide 1</dc:title>
</cp:coreProperties>
</file>